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B37-F3FE-4887-8CD3-4F94EF7D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DC4-CB51-4C50-9A24-79F35FC1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A10-B182-40A7-B1F7-7F233917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17A-B1DA-48AE-AB32-B9FEA7A5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C777-2325-4BE8-8128-1C2E062E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E2D0-5D83-4572-A6B7-612A4A67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010A-F875-4BF4-8A51-7FC0E61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6293-55BC-466A-B1DA-8B796E70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0DB6-5F73-49FA-8E34-6E00A6AC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9EB9-C855-4BB5-82CE-9A42567A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1E53-43F0-48D9-A106-492F574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813-E945-48A5-BB0C-0AAD81E1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089D-6C5E-4451-95A1-D80E6BB1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AE7C-8893-4C06-A0E6-F65A1EB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AF16-0EBF-4A57-8F5F-F166923B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EA33-41A1-4C6E-B5F9-D366D50C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2620-62BE-4A92-AA05-7E445BDB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4EF-4ACE-4EA5-8EB7-955EEBFC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28E-967F-4E6B-9700-072444AB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EC7-82D6-4378-8F15-CC809345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A3F-216B-4E16-96EA-49DAD9AA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926-782C-435D-B2A1-B4A74CD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10D-B0C9-404D-B8CB-B1B2374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3BF-B28D-4179-AF87-B1641CB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28B1-2C8D-4226-A9E8-41C5D44320D7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1845-2A04-4776-98B2-9AD558116BF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t.wikipedia.org/wiki/Galin&#279;s_smegenys" TargetMode="External"/><Relationship Id="rId3" Type="http://schemas.openxmlformats.org/officeDocument/2006/relationships/hyperlink" Target="http://lt.wikipedia.org/wiki/Didieji_pusrutulia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t.wikipedia.org/wiki/Dendritas" TargetMode="External"/><Relationship Id="rId3" Type="http://schemas.openxmlformats.org/officeDocument/2006/relationships/hyperlink" Target="http://lt.wikipedia.org/wiki/Aksonas" TargetMode="External"/><Relationship Id="rId4" Type="http://schemas.openxmlformats.org/officeDocument/2006/relationships/hyperlink" Target="http://lt.wikipedia.org/wiki/&#352;vano_l&#261;stel&#279;" TargetMode="External"/><Relationship Id="rId5" Type="http://schemas.openxmlformats.org/officeDocument/2006/relationships/hyperlink" Target="http://lt.wikipedia.org/wiki/&#352;vano_l&#261;stel&#279;" TargetMode="External"/><Relationship Id="rId6" Type="http://schemas.openxmlformats.org/officeDocument/2006/relationships/hyperlink" Target="http://lt.wikipedia.org/wiki/L&#261;stel&#279;" TargetMode="External"/><Relationship Id="rId7" Type="http://schemas.openxmlformats.org/officeDocument/2006/relationships/hyperlink" Target="http://lt.wikipedia.org/wiki/L&#261;stel&#279;s_branduolys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43000"/>
            <a:ext cx="8147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Kūno ir sielos problema.</a:t>
            </a:r>
            <a:br>
              <a:rPr sz="4800"/>
            </a:b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Biologiniai elgesio pagrindai</a:t>
            </a: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95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alvos smegenų tyrimų priemon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inikiniai stebėjim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esioginis poveikis smegen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elektrinio aktyvumo registravimas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elektroencefalograma (E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pjūviai – KAT (kompiuterinis aš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T (pozitroninis emis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zonan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ofizinė problem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1200" y="1704600"/>
            <a:ext cx="7146720" cy="4195800"/>
            <a:chOff x="1141200" y="1704600"/>
            <a:chExt cx="7146720" cy="4195800"/>
          </a:xfrm>
        </p:grpSpPr>
        <p:sp>
          <p:nvSpPr>
            <p:cNvPr id="103" name="_s19469"/>
            <p:cNvSpPr/>
            <p:nvPr/>
          </p:nvSpPr>
          <p:spPr>
            <a:xfrm>
              <a:off x="3649680" y="2449440"/>
              <a:ext cx="2131560" cy="213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463"/>
            <p:cNvSpPr/>
            <p:nvPr/>
          </p:nvSpPr>
          <p:spPr>
            <a:xfrm>
              <a:off x="3832200" y="1704600"/>
              <a:ext cx="17647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Kūna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megeny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70"/>
            <p:cNvSpPr/>
            <p:nvPr/>
          </p:nvSpPr>
          <p:spPr>
            <a:xfrm>
              <a:off x="4351320" y="3665160"/>
              <a:ext cx="2131560" cy="2132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464"/>
            <p:cNvSpPr/>
            <p:nvPr/>
          </p:nvSpPr>
          <p:spPr>
            <a:xfrm>
              <a:off x="652284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iela (sąmonė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471"/>
            <p:cNvSpPr/>
            <p:nvPr/>
          </p:nvSpPr>
          <p:spPr>
            <a:xfrm>
              <a:off x="2948040" y="3665160"/>
              <a:ext cx="2131560" cy="2132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9467"/>
            <p:cNvSpPr/>
            <p:nvPr/>
          </p:nvSpPr>
          <p:spPr>
            <a:xfrm>
              <a:off x="114120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Išorinis pasaul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sichofizinės problemos sprend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kazionalizmas (Dievas yra visa ko priežas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fizinis parale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teria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iuolaikinis požiū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1359000"/>
            <a:ext cx="8748360" cy="4302000"/>
            <a:chOff x="395280" y="1359000"/>
            <a:chExt cx="8748360" cy="4302000"/>
          </a:xfrm>
        </p:grpSpPr>
        <p:cxnSp>
          <p:nvCxnSpPr>
            <p:cNvPr id="114" name="_s25625"/>
            <p:cNvCxnSpPr>
              <a:stCxn id="115" idx="1"/>
              <a:endCxn id="116" idx="2"/>
            </p:cNvCxnSpPr>
            <p:nvPr/>
          </p:nvCxnSpPr>
          <p:spPr>
            <a:xfrm rot="10800000">
              <a:off x="5739840" y="4288680"/>
              <a:ext cx="233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5623"/>
            <p:cNvCxnSpPr>
              <a:stCxn id="118" idx="1"/>
              <a:endCxn id="116" idx="2"/>
            </p:cNvCxnSpPr>
            <p:nvPr/>
          </p:nvCxnSpPr>
          <p:spPr>
            <a:xfrm rot="10800000">
              <a:off x="5739840" y="4288680"/>
              <a:ext cx="233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5621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626960" y="3207600"/>
              <a:ext cx="229320" cy="3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5619"/>
            <p:cNvCxnSpPr>
              <a:stCxn id="116" idx="0"/>
              <a:endCxn id="121" idx="2"/>
            </p:cNvCxnSpPr>
            <p:nvPr/>
          </p:nvCxnSpPr>
          <p:spPr>
            <a:xfrm flipH="1" flipV="1" rot="5400000">
              <a:off x="6535440" y="2481120"/>
              <a:ext cx="229320" cy="181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561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894040" y="2845440"/>
              <a:ext cx="229320" cy="109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5615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1802160" y="2842920"/>
              <a:ext cx="229320" cy="1095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5612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049440" y="738000"/>
              <a:ext cx="229320" cy="279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5611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3502440" y="980280"/>
              <a:ext cx="229320" cy="230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5607"/>
            <p:cNvSpPr/>
            <p:nvPr/>
          </p:nvSpPr>
          <p:spPr>
            <a:xfrm>
              <a:off x="2854080" y="1359000"/>
              <a:ext cx="3830760" cy="6602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5608"/>
            <p:cNvSpPr/>
            <p:nvPr/>
          </p:nvSpPr>
          <p:spPr>
            <a:xfrm>
              <a:off x="87840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ENTRI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 (CNS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09"/>
            <p:cNvSpPr/>
            <p:nvPr/>
          </p:nvSpPr>
          <p:spPr>
            <a:xfrm>
              <a:off x="597348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FERIN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5614"/>
            <p:cNvSpPr/>
            <p:nvPr/>
          </p:nvSpPr>
          <p:spPr>
            <a:xfrm>
              <a:off x="39528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GALV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16"/>
            <p:cNvSpPr/>
            <p:nvPr/>
          </p:nvSpPr>
          <p:spPr>
            <a:xfrm>
              <a:off x="258012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GAR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8"/>
            <p:cNvSpPr/>
            <p:nvPr/>
          </p:nvSpPr>
          <p:spPr>
            <a:xfrm>
              <a:off x="4764960" y="3505320"/>
              <a:ext cx="194940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UTONOMINĖ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20"/>
            <p:cNvSpPr/>
            <p:nvPr/>
          </p:nvSpPr>
          <p:spPr>
            <a:xfrm>
              <a:off x="694944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OMATINĖ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22"/>
            <p:cNvSpPr/>
            <p:nvPr/>
          </p:nvSpPr>
          <p:spPr>
            <a:xfrm>
              <a:off x="5973480" y="45180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24"/>
            <p:cNvSpPr/>
            <p:nvPr/>
          </p:nvSpPr>
          <p:spPr>
            <a:xfrm>
              <a:off x="5973480" y="52038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A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Centrinė nervų sistema (</a:t>
            </a: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2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2200" y="1969920"/>
            <a:ext cx="2476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Galvos smegen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345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5157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Galvos smegenys:1.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Galinės smegen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, arba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didieji pusrutuli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2. Tarpinės smegenys 3.Vidurinės smegenys 4. Užpakalinės smegenys 5. Smegenėlės 6. Pailgosios smegen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Neuronai ir j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ų sąve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76560" y="56815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Neurono sandara. 1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Dendri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2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Aks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4. Sinapsinės jungtys 5. Mielininis dangalas (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4"/>
              </a:rPr>
              <a:t>Švano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5"/>
              </a:rPr>
              <a:t> ląstelė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) 6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6"/>
              </a:rPr>
              <a:t>Ląstelė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7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7"/>
              </a:rPr>
              <a:t>Ląstelės branduol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inapsės – neuronų jungt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0000" y="5589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Neuronų rūšys (pagal funkcija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nt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din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terptin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1:03:14Z</dcterms:created>
  <dc:creator>TADAS</dc:creator>
  <dc:description/>
  <dc:language>en-US</dc:language>
  <cp:lastModifiedBy> </cp:lastModifiedBy>
  <dcterms:modified xsi:type="dcterms:W3CDTF">2007-08-29T18:20:44Z</dcterms:modified>
  <cp:revision>17</cp:revision>
  <dc:subject/>
  <dc:title>BIOLOGINIAI ELGESIO PAGRINDAI</dc:title>
</cp:coreProperties>
</file>